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7BCC-F950-424F-A7D5-2FEEF8E7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ED4-54AE-48AF-8234-DEBB243D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46D-2341-4CB4-8B2F-5D4A4833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C21-EAD6-435A-8909-0A9F2832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B98C-6228-4AE8-921B-0DAA84DF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86B2-7EF6-4AA6-85D2-D3FF01BC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FFC9-63E1-4071-A794-F1A50648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4D9A-E7E9-4151-BEB9-1981094E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F643-4192-46E6-950D-6A1389B6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F11B-284B-4A77-B4BB-AC11E379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A122-61B8-49D9-930A-8E2AAE3D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9C6-5295-4BEC-905C-713534EF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2720-C7AC-4422-B0E7-C9AC0016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33D3-48F4-479C-A31A-C7C125A7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311A-18C7-4D21-A3ED-8F05E80F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8547-D702-43AD-9927-FE150BAC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5E01-7E66-4107-A411-EA753B3F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DD512-1E46-4B2B-8417-8A459B85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67FCB-837C-48F3-BD44-70F30C6E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F953D-3868-49CA-9BA7-55D61AAA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A4FB1-199F-4B52-8EAE-88FF8618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4DE33-36C2-4B7C-A33A-752B93E3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9237-7308-4F5F-9D21-3EB0B147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FCE8B-A327-4964-9120-236A705E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29EE1-1C03-4E6F-8668-CA09F604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F89522-6465-45E8-A8FC-FD8B7315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E6B42-9348-41E3-B2DE-65CD030D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BEF70-25D1-45CA-9C6E-30BB599F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57C20-4517-46CB-8132-B73C9D51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191D4-AC2A-4918-9CF7-C3F349DC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1D7EF-49DB-4550-B814-3720206B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06CB7-EF12-41BE-A360-92A6F047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9ED9A-D07A-4021-9EAC-AF72E8CC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6F2-F6DB-43EC-B833-AA367E3C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F593C-90A0-491B-90EB-6504C62B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56B60-7FF3-4099-997B-7FD4B35F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97891-305B-4895-A84E-67915E74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91770-674C-4438-A2EF-6BB8364B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F84E5-F99C-47C0-90D4-CD6383F8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FD68C-BF0A-42F5-9ECB-FEBDBAB4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E753D-5632-4DF8-BB37-2DCA8E48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1AB01-6CB1-45F6-89AC-BC966C2E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D0117-71E9-4AFA-A0BD-13D13D3E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D0950-4370-40ED-99A3-1C7CE2C5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203-1DDF-4C4B-BB0C-C238302D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E1FE99-E40A-4F03-8F05-9CF26E36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691BB-D473-4D49-ABE9-0CD8D993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F6B46-DA12-4282-AFCB-C2EF435C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62241-4E71-41B4-AB66-BF1C7EE6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AE577-C4AB-40E2-BC2C-3718B7B7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58C3C-F667-4B52-9A98-C9B2E973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C93C6-4A9F-4ED2-8BE9-C4242BA4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1689AD-05F0-4DA6-BAF3-B37A3BC2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275957-4265-4824-BEC6-5AC8AADA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1E438-6E8B-428B-8F3B-2C94DC24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C40-F383-4C74-91D0-3D4E5777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32F872-95B2-4901-A02E-245739C0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30EFC9-F54F-4BA9-AFB4-2084F094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FEA14C-DF66-41E1-A581-6154E16E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75D68A-F8BC-4151-9054-2CAB1384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C4DE0-ED03-42A4-88D4-9D4BFB10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894982-63FE-4E91-9F76-BE71FE1B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F1592-834F-46A0-8643-A514FE72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E0219-D47A-4536-B49D-DB7353D3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D16587-EB10-458F-A090-42E18AFC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651250-ABE8-45DE-9A4F-60820B51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8C1-1E07-44E2-B479-6E44AF4F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42F02-61AE-4A12-8B38-2330ED73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735D30-E9F6-482F-AA04-4A4E32E9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BFFD16-9D13-4B62-A985-BFCC461E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0F8023-5CAC-46E4-A244-DBBEBBF3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AB5110-C4B1-4A02-A58D-A8F23601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A04524-6C2C-4D85-AEC4-2B59E0DA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7BDFA-DDDC-4646-9195-480D9C93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384A73-638A-4D14-9910-B9467F0B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8116C7-DE91-4974-BE4C-0D0429DD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B97DF-C334-4726-8806-A7364465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0F7-FE90-42C5-AB33-F7612FAD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63F1F2-6C5D-4627-ACBF-BB7F174C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2C07A0-5ECA-45F4-8764-E9402860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5746D9-38AE-4B7E-8E56-09512676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43D881-8BCB-4300-9CF9-A4C86A98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74C929-BC57-4374-87C2-55DA517C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1C1-271F-44A5-A9DA-FD5E4721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D3D9-DE60-4BFD-B7D4-16E3700D49B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31F3-8B32-4FE3-A086-9387E52DB5E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B2F7-9162-45C4-9247-D6340705514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62B5-D0C8-4955-8366-5BCDE933373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61D6-30FD-45BC-A585-F7136F72A7D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8385-A47E-456C-8612-9E339D4B66C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B038-EAC5-4F34-AA9F-9E8F03BA4F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99800" y="499680"/>
            <a:ext cx="645804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Schoolbook"/>
              </a:rPr>
              <a:t>БЮДЖЕТ ШКОЛЫ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Century Schoolbook"/>
              </a:rPr>
              <a:t> НА 2011 ГОД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499840" y="4214880"/>
            <a:ext cx="6172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Century Schoolbook"/>
              </a:rPr>
              <a:t>11 106 266 –областно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Century Schoolbook"/>
              </a:rPr>
              <a:t>2 924 296 – районны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Century Schoolbook"/>
              </a:rPr>
              <a:t>ОБЛАСТНОЙ БЮДЖЕТ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0" lang="ru-RU" sz="4800" spc="-1" strike="noStrike">
                <a:solidFill>
                  <a:srgbClr val="b32c16"/>
                </a:solidFill>
                <a:latin typeface="Century Schoolbook"/>
              </a:rPr>
              <a:t>11 106 266 –областной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10 612 748,0 оплата труда, из них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7 851 973 –заработная пла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2 685 375 –начисления на оплату труда (213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75 400 – прочие выплаты(212ст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52 800 методическая литератур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22 600 суточные на курсах,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ах, 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4678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Century Schoolbook"/>
              </a:rPr>
              <a:t>ОБЛАСТНОЙ БЮДЖЕТ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25 000 транспортные услуги (222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проезд на курсы, соревно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35 000 прочие услуги (226 ст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проживание на курсах,               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ах,  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15 000 – прочие расходы (290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питание на районных  и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бластных  олимпиадах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Century Schoolbook"/>
              </a:rPr>
              <a:t>СРЕДСТВА СТАНДАРТА НА ОБЕСПЕЧЕНИЕ УЧЕБНОГО ПРОЦЕСС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Всего: 418 518рубле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103 518 – увеличение стоимости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материальных запасо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приобретение картриджей - 5000ру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бумага для принтера – 18 000 ру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хозяйственные товары, моющие, дезинфицирующие средства – 40 000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материалы для шк. мастерской – 10 000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спортивный инвентарь – 10 480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лампочки, светильники – 20 038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СРЕДСТВА СТАНДАРТА НА ОБЕСПЕЧЕНИЕ УЧЕБНОГО ПРОЦЕСС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315 000  руб -  увеличение стоимости основных средств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95 000 – приобретение школьной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мебел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80 000- приобретение учебник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15 000 – приобретение учебно-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наглядных пособ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0 000 – приобретение кл. досо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95 000 – приобретение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компьютерного оборудо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Schoolbook"/>
              </a:rPr>
              <a:t>РАЙОННЫЙ БЮДЖЕТ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Century Schoolbook"/>
              </a:rPr>
              <a:t>Всего 2 924 296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3 000 руб (212ст.) – суточные в командировках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7 000 руб (221 ст.) – услуги связи ОАО «Волга-Телеком» (из них 43 383,62 задолженность за 2010 год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0 000 руб (222 ст) –проезд в командировки, на совещания  и т.д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 387 296 руб. – коммунальные услуг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1 992 996  - оплата отоплени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387 900  - оплата электроэнерги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6 400 – оплата прочих коммунальных услуг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УСЛУГИ ПО СОДЕРЖАНИЮ ИМУЩЕСТВА (СТ.225) -200 000 РУБ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7 717,32  - регламентные работы  , ТО  ПС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5 777,28 – оплата дератизаци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781,44 – услуги по заправке и выпуске автоб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0 000 – уборка жидких и твёрдых отход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80 000 – ремонт медицинского кабине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5 144,38 – услуги по ремонту электрооб-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Задолженность за 2010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3134,6 –выпуск, заправка автобу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15 715,55 –пожарная сигнализа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623,68 – дератиза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7 105,75 – ремонт эл.оборудов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ПРОЧИЕ УСЛУГИ (226 СТ) 73 000Р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4500- проживание в командировка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6482,4 – оплата тревожной кноп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1 110,23 – услуги стоянки автобус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 024,63 – услуги по проведению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медицинских осмотр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600 – оплата услуг компании СБИ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Задолженность за 2010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25 753,4 - за стоянку автобус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1529,34 – за обслуживание тревожной кноп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УВЕЛИЧЕНИЕ СТОИМОСТИ МАТЕРИАЛЬНЫХ ЗАПАСОВ (СТ.340.606; СТ 340.607)</a:t>
            </a: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202 000 РУБ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Оплата ГСМ  - 87 002,47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едикаменты 15 00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Хозяйственные расходы 10 00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атериалы для ремонта 43 422,57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Задолженность за 2010 год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Оплата ГСМ  - 44 997,53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Запчасти к автобусу – 1091,48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едикаменты – 485,95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48:16Z</dcterms:created>
  <dc:creator>директор</dc:creator>
  <dc:description/>
  <dc:language>en-US</dc:language>
  <cp:lastModifiedBy>директор</cp:lastModifiedBy>
  <dcterms:modified xsi:type="dcterms:W3CDTF">2011-03-02T10:45:58Z</dcterms:modified>
  <cp:revision>47</cp:revision>
  <dc:subject/>
  <dc:title>Бюджет школы  на 2011 год</dc:title>
</cp:coreProperties>
</file>